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959F-BB76-4C61-BF4A-EC510006427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209D-B588-43C0-BCC2-F149069CFF7E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616D-5CC1-48BB-BF8B-7CE45DA60BA6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764-4DC7-4AF9-A8B1-F5F5E9029AA7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zervirano mjesto broja slajd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DF6E-F981-4B1D-A107-386989CE689C}" type="slidenum">
              <a:rPr b="0" lang="hr-H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2C3-7DB2-4FAF-A95A-BD424756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A9B-FE48-4F16-BD5A-A1AE87F5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DF0-350B-4AA7-AAA5-8CB69D16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3C1-698E-46D8-A257-FD1624F6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E94-170F-4A93-88F6-140D25EE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920-2926-4123-B412-A56BB391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1AD-6B83-443B-A337-7443B926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B44-7ED7-4F0B-8714-DBF18261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284-18DB-48B7-94AC-2CDA8089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C42-C492-4448-9882-1F39C9EB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924-A62E-415D-B515-02CA3E08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12A-B462-48B5-AC46-BF47D22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2465-C03D-42A9-A226-CE15EB46D3A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9160" y="2173320"/>
            <a:ext cx="943308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ADMINISTRATIVNO I FINANCIJSKO VOĐENJE PROJEKT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46195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libri"/>
              </a:rPr>
              <a:t>mr.sc. Latinka Janjanin, dipl. ing. bi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</a:rPr>
              <a:t>Stručna savjetnica za prirodne sust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Slika 5" descr=""/>
          <p:cNvPicPr/>
          <p:nvPr/>
        </p:nvPicPr>
        <p:blipFill>
          <a:blip r:embed="rId1"/>
          <a:stretch/>
        </p:blipFill>
        <p:spPr>
          <a:xfrm>
            <a:off x="4451400" y="247680"/>
            <a:ext cx="3289320" cy="1866960"/>
          </a:xfrm>
          <a:prstGeom prst="rect">
            <a:avLst/>
          </a:prstGeom>
          <a:ln w="0">
            <a:noFill/>
          </a:ln>
        </p:spPr>
      </p:pic>
      <p:pic>
        <p:nvPicPr>
          <p:cNvPr id="51" name="Slika 6" descr=""/>
          <p:cNvPicPr/>
          <p:nvPr/>
        </p:nvPicPr>
        <p:blipFill>
          <a:blip r:embed="rId2"/>
          <a:stretch/>
        </p:blipFill>
        <p:spPr>
          <a:xfrm>
            <a:off x="217440" y="247680"/>
            <a:ext cx="2143080" cy="807840"/>
          </a:xfrm>
          <a:prstGeom prst="rect">
            <a:avLst/>
          </a:prstGeom>
          <a:ln w="0">
            <a:noFill/>
          </a:ln>
        </p:spPr>
      </p:pic>
      <p:pic>
        <p:nvPicPr>
          <p:cNvPr id="52" name="Slika 7" descr=""/>
          <p:cNvPicPr/>
          <p:nvPr/>
        </p:nvPicPr>
        <p:blipFill>
          <a:blip r:embed="rId3"/>
          <a:stretch/>
        </p:blipFill>
        <p:spPr>
          <a:xfrm>
            <a:off x="8205840" y="254160"/>
            <a:ext cx="3814560" cy="396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8" descr=""/>
          <p:cNvPicPr/>
          <p:nvPr/>
        </p:nvPicPr>
        <p:blipFill>
          <a:blip r:embed="rId4"/>
          <a:stretch/>
        </p:blipFill>
        <p:spPr>
          <a:xfrm>
            <a:off x="4495680" y="3840120"/>
            <a:ext cx="3200400" cy="506520"/>
          </a:xfrm>
          <a:prstGeom prst="rect">
            <a:avLst/>
          </a:prstGeom>
          <a:ln w="0">
            <a:noFill/>
          </a:ln>
        </p:spPr>
      </p:pic>
      <p:sp>
        <p:nvSpPr>
          <p:cNvPr id="54" name="Podnaslov 2"/>
          <p:cNvSpPr/>
          <p:nvPr/>
        </p:nvSpPr>
        <p:spPr>
          <a:xfrm>
            <a:off x="4416480" y="5759280"/>
            <a:ext cx="335916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Calibri"/>
                <a:ea typeface="Arial"/>
              </a:rPr>
              <a:t>Ljubljana, 25.09.20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Naslov 1"/>
          <p:cNvSpPr/>
          <p:nvPr/>
        </p:nvSpPr>
        <p:spPr>
          <a:xfrm>
            <a:off x="2000160" y="3268800"/>
            <a:ext cx="819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24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3. Sastanak projektnih partnera i Stručne radne grupe projek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niOkvir 11"/>
          <p:cNvSpPr/>
          <p:nvPr/>
        </p:nvSpPr>
        <p:spPr>
          <a:xfrm>
            <a:off x="1523880" y="4575240"/>
            <a:ext cx="3946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Ingrid Paljar, dipl.ing.a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Calibri"/>
                <a:ea typeface="Arial"/>
              </a:rPr>
              <a:t>Voditeljica projekta, ravnateljica Za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lika 3" descr=""/>
          <p:cNvPicPr/>
          <p:nvPr/>
        </p:nvPicPr>
        <p:blipFill>
          <a:blip r:embed="rId5"/>
          <a:stretch/>
        </p:blipFill>
        <p:spPr>
          <a:xfrm>
            <a:off x="9879120" y="5899320"/>
            <a:ext cx="186516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Slika 4" descr=""/>
          <p:cNvPicPr/>
          <p:nvPr/>
        </p:nvPicPr>
        <p:blipFill>
          <a:blip r:embed="rId6"/>
          <a:stretch/>
        </p:blipFill>
        <p:spPr>
          <a:xfrm>
            <a:off x="2166840" y="5721480"/>
            <a:ext cx="803520" cy="882360"/>
          </a:xfrm>
          <a:prstGeom prst="rect">
            <a:avLst/>
          </a:prstGeom>
          <a:ln w="0">
            <a:noFill/>
          </a:ln>
        </p:spPr>
      </p:pic>
      <p:pic>
        <p:nvPicPr>
          <p:cNvPr id="59" name="Slika 12" descr=""/>
          <p:cNvPicPr/>
          <p:nvPr/>
        </p:nvPicPr>
        <p:blipFill>
          <a:blip r:embed="rId7"/>
          <a:stretch/>
        </p:blipFill>
        <p:spPr>
          <a:xfrm>
            <a:off x="7759800" y="5721480"/>
            <a:ext cx="119052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Slika 13" descr=""/>
          <p:cNvPicPr/>
          <p:nvPr/>
        </p:nvPicPr>
        <p:blipFill>
          <a:blip r:embed="rId8"/>
          <a:stretch/>
        </p:blipFill>
        <p:spPr>
          <a:xfrm>
            <a:off x="376200" y="5781600"/>
            <a:ext cx="1009800" cy="758880"/>
          </a:xfrm>
          <a:prstGeom prst="rect">
            <a:avLst/>
          </a:prstGeom>
          <a:ln w="0">
            <a:noFill/>
          </a:ln>
        </p:spPr>
      </p:pic>
      <p:pic>
        <p:nvPicPr>
          <p:cNvPr id="61" name="Slika 14" descr=""/>
          <p:cNvPicPr/>
          <p:nvPr/>
        </p:nvPicPr>
        <p:blipFill>
          <a:blip r:embed="rId9"/>
          <a:stretch/>
        </p:blipFill>
        <p:spPr>
          <a:xfrm>
            <a:off x="3613320" y="5678640"/>
            <a:ext cx="89676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3440" y="1290240"/>
            <a:ext cx="91440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SADRŽAJ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Slika 6" descr=""/>
          <p:cNvPicPr/>
          <p:nvPr/>
        </p:nvPicPr>
        <p:blipFill>
          <a:blip r:embed="rId1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64" name="Slika 7" descr=""/>
          <p:cNvPicPr/>
          <p:nvPr/>
        </p:nvPicPr>
        <p:blipFill>
          <a:blip r:embed="rId2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603440" y="2544840"/>
            <a:ext cx="91440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osnov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financijski di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osnovne inform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potrebna dokument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Slika 9" descr=""/>
          <p:cNvPicPr/>
          <p:nvPr/>
        </p:nvPicPr>
        <p:blipFill>
          <a:blip r:embed="rId3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67" name="Slika 10" descr=""/>
          <p:cNvPicPr/>
          <p:nvPr/>
        </p:nvPicPr>
        <p:blipFill>
          <a:blip r:embed="rId4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806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Osnovne informacije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lika 5" descr=""/>
          <p:cNvPicPr/>
          <p:nvPr/>
        </p:nvPicPr>
        <p:blipFill>
          <a:blip r:embed="rId1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71" name="Slika 6" descr=""/>
          <p:cNvPicPr/>
          <p:nvPr/>
        </p:nvPicPr>
        <p:blipFill>
          <a:blip r:embed="rId2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pic>
        <p:nvPicPr>
          <p:cNvPr id="72" name="Slika 7" descr=""/>
          <p:cNvPicPr/>
          <p:nvPr/>
        </p:nvPicPr>
        <p:blipFill>
          <a:blip r:embed="rId3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838080" y="2282400"/>
            <a:ext cx="105156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nji datum predaje Izvješća 31.08.20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i prihvatljivi troškovi uneseni i zaključeni u ISARR-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vješće proslijeđeno nacionalnom kontroloru → poštom (original i kop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čuni i financijski dokumenti i prilozi posloženi prema uputama iz Smjernica za izvještavanje za korisnik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lika 10" descr=""/>
          <p:cNvPicPr/>
          <p:nvPr/>
        </p:nvPicPr>
        <p:blipFill>
          <a:blip r:embed="rId4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515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8" name="Slika 7" descr=""/>
          <p:cNvPicPr/>
          <p:nvPr/>
        </p:nvPicPr>
        <p:blipFill>
          <a:blip r:embed="rId1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79" name="Slika 8" descr=""/>
          <p:cNvPicPr/>
          <p:nvPr/>
        </p:nvPicPr>
        <p:blipFill>
          <a:blip r:embed="rId2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80" name="Slika 9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81" name="Slika 10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17440" y="1609560"/>
          <a:ext cx="11779200" cy="4265640"/>
        </p:xfrm>
        <a:graphic>
          <a:graphicData uri="http://schemas.openxmlformats.org/drawingml/2006/table">
            <a:tbl>
              <a:tblPr/>
              <a:tblGrid>
                <a:gridCol w="1698840"/>
                <a:gridCol w="1120680"/>
                <a:gridCol w="1119240"/>
                <a:gridCol w="1120680"/>
                <a:gridCol w="1119240"/>
                <a:gridCol w="1120680"/>
                <a:gridCol w="1119240"/>
                <a:gridCol w="1120680"/>
                <a:gridCol w="1119240"/>
                <a:gridCol w="1120680"/>
              </a:tblGrid>
              <a:tr h="189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1</a:t>
                      </a:r>
                      <a:r>
                        <a:rPr b="0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10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KAZ ODOBRENIH, PLANIRANIH I UTROŠENIH SREDSTAVA PO PROJEKTNOM PARTNE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od za prostorno uređenje IŽ (V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ska općina Kopar (PP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Pula (PP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234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60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65,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12,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29,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VANJSKIH USL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946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086,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22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2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22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ULAG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4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4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TIVNI TROŠKO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1,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48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,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,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/Skupa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216,7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518,6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71,73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.229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309,26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029,88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196920">
                <a:tc gridSpan="10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ni razvojni centar Kopar (PP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-Fakultet za arhitekturu (PP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Buzet (PP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OBRENA SREDSTV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 U 2015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1. RAZDOBLJA IZVJEŠTAVANJA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OSOB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76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73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.741,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90,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91,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625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VANJSKIH USLU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56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2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ŠKOVI ULAG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ATIVNI TROŠKO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44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7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3,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5,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93680"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/Skupa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30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77,52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92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a969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152,11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204,4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91,22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020,0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760,50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88640">
                <a:tc gridSpan="7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: Prilog 2. - Ugovora o sufinanciranju i ISA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515880"/>
            <a:ext cx="105156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Slika 7" descr=""/>
          <p:cNvPicPr/>
          <p:nvPr/>
        </p:nvPicPr>
        <p:blipFill>
          <a:blip r:embed="rId1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87" name="Slika 8" descr=""/>
          <p:cNvPicPr/>
          <p:nvPr/>
        </p:nvPicPr>
        <p:blipFill>
          <a:blip r:embed="rId2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88" name="Slika 9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89" name="Slika 10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47600" y="2198520"/>
          <a:ext cx="5113440" cy="2954520"/>
        </p:xfrm>
        <a:graphic>
          <a:graphicData uri="http://schemas.openxmlformats.org/drawingml/2006/table">
            <a:tbl>
              <a:tblPr/>
              <a:tblGrid>
                <a:gridCol w="2595600"/>
                <a:gridCol w="996840"/>
                <a:gridCol w="1521000"/>
              </a:tblGrid>
              <a:tr h="2145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LED IZDATAKA PO KATEGORIJAMA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pno prihvatljivi troškovi projekta (do 01.05.2016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9.227,07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virni iznos zatraženih EFRR sredstava                 (do 31.12.2015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,00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avljeni izdaci u 1. Izvješću (do 31.07.2015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838,44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or: Prilog 2. - Ugovora o sufinanciranju ISA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TekstniOkvir 1"/>
          <p:cNvSpPr/>
          <p:nvPr/>
        </p:nvSpPr>
        <p:spPr>
          <a:xfrm>
            <a:off x="5213520" y="1521000"/>
            <a:ext cx="80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Grafikon 1</a:t>
            </a:r>
            <a:r>
              <a:rPr b="0" lang="hr-HR" sz="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lika 3" descr=""/>
          <p:cNvPicPr/>
          <p:nvPr/>
        </p:nvPicPr>
        <p:blipFill>
          <a:blip r:embed="rId5"/>
          <a:stretch/>
        </p:blipFill>
        <p:spPr>
          <a:xfrm>
            <a:off x="4919760" y="1741320"/>
            <a:ext cx="72723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96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97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771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IZVJEŠĆE O NAPRETKU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Financijski dio -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TekstniOkvir 15"/>
          <p:cNvSpPr/>
          <p:nvPr/>
        </p:nvSpPr>
        <p:spPr>
          <a:xfrm>
            <a:off x="28440" y="1857240"/>
            <a:ext cx="1430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Grafikon 2</a:t>
            </a:r>
            <a:r>
              <a:rPr b="0" lang="hr-HR" sz="9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avokutnik 17"/>
          <p:cNvSpPr/>
          <p:nvPr/>
        </p:nvSpPr>
        <p:spPr>
          <a:xfrm>
            <a:off x="6264360" y="5135400"/>
            <a:ext cx="314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Izvor: Prilog 2. - Ugovora o sufinanciranju i ISA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avokutnik 18"/>
          <p:cNvSpPr/>
          <p:nvPr/>
        </p:nvSpPr>
        <p:spPr>
          <a:xfrm>
            <a:off x="0" y="5641920"/>
            <a:ext cx="311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  <a:ea typeface="Arial"/>
              </a:rPr>
              <a:t>Izvor: Prilog 2. - Ugovora o sufinanciranju i ISAR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365880" y="2328840"/>
          <a:ext cx="5748480" cy="2811600"/>
        </p:xfrm>
        <a:graphic>
          <a:graphicData uri="http://schemas.openxmlformats.org/drawingml/2006/table">
            <a:tbl>
              <a:tblPr/>
              <a:tblGrid>
                <a:gridCol w="2187720"/>
                <a:gridCol w="1187280"/>
                <a:gridCol w="1185840"/>
                <a:gridCol w="1187640"/>
              </a:tblGrid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ica 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JEK PRORAČUNA PROJEKTA ZA 2015. G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ira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daci u 1. razdoblja izvješt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ostalo sredst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od za prostorno uređenje IŽ (V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518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71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446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4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 Kopar (PP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29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Pula (PP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029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42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.687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C Kopar (PP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977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9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985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dfec"/>
                    </a:solidFill>
                  </a:tcPr>
                </a:tc>
              </a:tr>
              <a:tr h="239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kultet za arhitekturu (PP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204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69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513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 Buzet (PP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760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019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pic>
        <p:nvPicPr>
          <p:cNvPr id="104" name="Slika 1" descr=""/>
          <p:cNvPicPr/>
          <p:nvPr/>
        </p:nvPicPr>
        <p:blipFill>
          <a:blip r:embed="rId5"/>
          <a:stretch/>
        </p:blipFill>
        <p:spPr>
          <a:xfrm>
            <a:off x="28440" y="2139840"/>
            <a:ext cx="623592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8080" y="2689200"/>
            <a:ext cx="10515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deći partner podnosi ZTT-u Izvješće najkasnije do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31.12.2015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Ugovor o sufinanciranju-Prilog 3-Kalendar izvještavanj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P trebaju potvrđene troškove podnijeti VP-u najkasnije do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30.11.2015.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čl. 10., Sporazuma o partnerstv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kvirni iznos zatraženih EFRR sredstava kod 1. Izvješća=</a:t>
            </a: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100.000,00 E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P mora poslati svakom PP kopiju Izvješća podnesenog ZTT-u (st. 4., čl. 10., Sporazuma o partnerstvu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109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110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11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112" name="Naslov 1"/>
          <p:cNvSpPr/>
          <p:nvPr/>
        </p:nvSpPr>
        <p:spPr>
          <a:xfrm>
            <a:off x="838080" y="108108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Osnovne informacij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8080" y="2334960"/>
            <a:ext cx="105156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PP trebaju do </a:t>
            </a:r>
            <a:r>
              <a:rPr b="1" i="1" lang="hr-HR" sz="2800" spc="-1" strike="noStrike" u="sng">
                <a:solidFill>
                  <a:srgbClr val="000000"/>
                </a:solidFill>
                <a:uFillTx/>
                <a:latin typeface="Calibri"/>
              </a:rPr>
              <a:t>30.11.2015.</a:t>
            </a: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 godine VP-u dostavi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piju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Izjave o potvrđenim izdacim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pisanu od strane nacionalnog kontrol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piju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Popisa račun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slije potvrde potpisanu od strane nacionalnog kontrol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vrđeno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Financijsko izvješće partner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origi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vrđeno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zvješće partnera o provedenim aktivnostim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(origi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zervirano mjesto datuma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25.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zervirano mjesto podnožja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Ljubljana, 25.09.20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Slika 5" descr=""/>
          <p:cNvPicPr/>
          <p:nvPr/>
        </p:nvPicPr>
        <p:blipFill>
          <a:blip r:embed="rId1"/>
          <a:stretch/>
        </p:blipFill>
        <p:spPr>
          <a:xfrm>
            <a:off x="8702640" y="230040"/>
            <a:ext cx="3200400" cy="506520"/>
          </a:xfrm>
          <a:prstGeom prst="rect">
            <a:avLst/>
          </a:prstGeom>
          <a:ln w="0">
            <a:noFill/>
          </a:ln>
        </p:spPr>
      </p:pic>
      <p:pic>
        <p:nvPicPr>
          <p:cNvPr id="117" name="Slika 6" descr=""/>
          <p:cNvPicPr/>
          <p:nvPr/>
        </p:nvPicPr>
        <p:blipFill>
          <a:blip r:embed="rId2"/>
          <a:stretch/>
        </p:blipFill>
        <p:spPr>
          <a:xfrm>
            <a:off x="82440" y="0"/>
            <a:ext cx="2278080" cy="1290600"/>
          </a:xfrm>
          <a:prstGeom prst="rect">
            <a:avLst/>
          </a:prstGeom>
          <a:ln w="0">
            <a:noFill/>
          </a:ln>
        </p:spPr>
      </p:pic>
      <p:pic>
        <p:nvPicPr>
          <p:cNvPr id="118" name="Slika 7" descr=""/>
          <p:cNvPicPr/>
          <p:nvPr/>
        </p:nvPicPr>
        <p:blipFill>
          <a:blip r:embed="rId3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19" name="Slika 8" descr=""/>
          <p:cNvPicPr/>
          <p:nvPr/>
        </p:nvPicPr>
        <p:blipFill>
          <a:blip r:embed="rId4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sp>
        <p:nvSpPr>
          <p:cNvPr id="120" name="Naslov 1"/>
          <p:cNvSpPr/>
          <p:nvPr/>
        </p:nvSpPr>
        <p:spPr>
          <a:xfrm>
            <a:off x="838080" y="100980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ZAJEDNIČKO IZVJEŠĆE VODEĆEG PARTNERA BR. 1</a:t>
            </a:r>
            <a:br>
              <a:rPr sz="3200"/>
            </a:br>
            <a:r>
              <a:rPr b="1" i="1" lang="hr-HR" sz="2800" spc="-1" strike="noStrike">
                <a:solidFill>
                  <a:srgbClr val="000000"/>
                </a:solidFill>
                <a:latin typeface="Calibri"/>
              </a:rPr>
              <a:t>- Potrebna dokumentacij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223488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hr-HR" sz="4400" spc="-1" strike="noStrike">
                <a:solidFill>
                  <a:srgbClr val="000000"/>
                </a:solidFill>
                <a:latin typeface="Calibri"/>
              </a:rPr>
              <a:t>HVALA NA PAŽNJI</a:t>
            </a:r>
            <a:br>
              <a:rPr sz="43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23880" y="42670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Slika 5" descr=""/>
          <p:cNvPicPr/>
          <p:nvPr/>
        </p:nvPicPr>
        <p:blipFill>
          <a:blip r:embed="rId1"/>
          <a:stretch/>
        </p:blipFill>
        <p:spPr>
          <a:xfrm>
            <a:off x="4451400" y="247680"/>
            <a:ext cx="3289320" cy="1866960"/>
          </a:xfrm>
          <a:prstGeom prst="rect">
            <a:avLst/>
          </a:prstGeom>
          <a:ln w="0">
            <a:noFill/>
          </a:ln>
        </p:spPr>
      </p:pic>
      <p:pic>
        <p:nvPicPr>
          <p:cNvPr id="124" name="Slika 6" descr=""/>
          <p:cNvPicPr/>
          <p:nvPr/>
        </p:nvPicPr>
        <p:blipFill>
          <a:blip r:embed="rId2"/>
          <a:stretch/>
        </p:blipFill>
        <p:spPr>
          <a:xfrm>
            <a:off x="217440" y="6012000"/>
            <a:ext cx="2143080" cy="809640"/>
          </a:xfrm>
          <a:prstGeom prst="rect">
            <a:avLst/>
          </a:prstGeom>
          <a:ln w="0">
            <a:noFill/>
          </a:ln>
        </p:spPr>
      </p:pic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8088480" y="6262560"/>
            <a:ext cx="3814560" cy="398520"/>
          </a:xfrm>
          <a:prstGeom prst="rect">
            <a:avLst/>
          </a:prstGeom>
          <a:ln w="0">
            <a:noFill/>
          </a:ln>
        </p:spPr>
      </p:pic>
      <p:pic>
        <p:nvPicPr>
          <p:cNvPr id="126" name="Slika 8" descr=""/>
          <p:cNvPicPr/>
          <p:nvPr/>
        </p:nvPicPr>
        <p:blipFill>
          <a:blip r:embed="rId4"/>
          <a:stretch/>
        </p:blipFill>
        <p:spPr>
          <a:xfrm>
            <a:off x="4278240" y="3963960"/>
            <a:ext cx="36352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5T12:58:45Z</dcterms:created>
  <dc:creator>Sandro Krizman</dc:creator>
  <dc:description/>
  <dc:language>en-US</dc:language>
  <cp:lastModifiedBy>Sandro Krizman</cp:lastModifiedBy>
  <dcterms:modified xsi:type="dcterms:W3CDTF">2015-09-17T08:05:06Z</dcterms:modified>
  <cp:revision>111</cp:revision>
  <dc:subject/>
  <dc:title>ADMINISTRATIVNO I FINANCIJSKO STANJE PROJEKTA</dc:title>
</cp:coreProperties>
</file>