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CE4-7A40-4EF0-8DE7-F6A72064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6B2-0D69-4C61-B771-15A4B73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E10-278C-4266-B712-B6EA128C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603-0CCB-478C-9080-A2D0FE0A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F60-52E2-4EFB-BDB9-58C0AC0E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F4F3-7D53-444B-898F-E5F53A7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762-A099-47D6-A511-4BF4BFF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AB5-BE88-4145-A696-6B4731E9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FAB8-064A-4D82-A07D-B7A3B30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37C4-EDCC-4930-B793-1EFC0A9E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7195-E93D-411B-A2D1-C30B74D9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F17-DE18-4CC8-BBBF-7E215467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B53-016F-4D56-BEC6-72B8A945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7BCE-CCE0-4C08-9A02-FEEF8F4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373E-7931-4149-9CB9-D9EE738D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F1E0-2AE5-4A7A-BF97-F0D8CC27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2719-8A22-4DAB-94E7-0F0E4308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A33-3EAB-4D48-9361-2F6DA07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E5F-0011-4683-A17C-3D1E3B3E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D07-149B-40CB-9937-D3FDC333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588-7F5F-4D2D-9629-712E18B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32F-0FA4-4060-96AC-0E37686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D39-E57D-41D8-8085-088BA775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19B-5A4E-46EA-A2E2-135E842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hr-HR" sz="60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E76B4A-E832-4058-B513-ECBD3B6EB6D6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Uredite stil naslova matrice</a:t>
            </a:r>
            <a:endParaRPr b="0" lang="sr-Latn-R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redite stilove teksta matrice</a:t>
            </a:r>
            <a:endParaRPr b="0" lang="sr-Latn-R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ruga razina</a:t>
            </a: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Treća razina</a:t>
            </a: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Četvr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eta razin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hr-H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hr-H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101DED-38AD-479A-91AC-7E0C5BFC9C78}" type="slidenum">
              <a:rPr b="0" lang="hr-H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PUT-UP ISTRE</a:t>
            </a:r>
            <a:br>
              <a:rPr sz="2000"/>
            </a:b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PROVEDENE AKTIVNOSTI I FINANCIJSKI IZVJEŠTAJ GRADA PULE</a:t>
            </a:r>
            <a:endParaRPr b="0" lang="sr-Latn-R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878640"/>
            <a:ext cx="91436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armela Maren, mag. ing. 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jubljana, 25.09.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1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8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porazuma o partne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Pula, 18.05.2015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Sudjelovanje na prvom sastanku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Kick off meeting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Buzetu, 20.05.2015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SARR </a:t>
            </a:r>
            <a:r>
              <a:rPr b="1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1076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nos troškova u ISARR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. Izvješće partnera o napretku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(IA1_izvješće o aktivnostima + FI1_financijsko izvješće)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NACIONALNI KONTROLOR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, 20.07.2015. </a:t>
            </a:r>
            <a:r>
              <a:rPr b="0" lang="hr-HR" sz="1600" spc="-1" strike="noStrike">
                <a:solidFill>
                  <a:srgbClr val="000000"/>
                </a:solidFill>
                <a:latin typeface="AcadEref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sastanak projektnih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artnera, sastanak stručne radne grupe, sastanak upravnog odbor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usluge izrade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ELABORATA ZAŠTITE OKOLIŠ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jedna važeća ponuda te je ist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odabran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ljene i dostavljene podloge potrebne za izradu Elaborata te je s ponuditeljem potpisa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ugovor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o izradi Elaborat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izrađeni Elaborat zaštite okoliša proslijeđen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ministarstvu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na ocjenu o potrebi procjene utjecaja na okoliš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3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37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9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bava rob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ARCGIS MREŽNA LICENCA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pućeni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ozivi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za dostavu ponude na tri adrese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jedna važeća ponud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e je ista odabrana kao najbolja ponu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govaračko izvješć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 postupke sa samo jednom ponudom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nuditelju posla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arudžbenic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29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primljeni materijali nužni za instalacij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vrše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nstal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na računalima.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Sastanak u Pul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20.07.2015.</a:t>
            </a:r>
            <a:endParaRPr b="0" lang="sr-Latn-R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ts val="36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›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Grad Pula - Gradska općina Kopar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jenos dobre prakse iz Kopra;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Provedene aktivnosti_RP4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22924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ss konferenci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 Puli, 18.05.2015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otpisivanje Sporazuma o partnerstvu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lnSpc>
                <a:spcPts val="2999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36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sr-Latn-R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1981080" y="3933000"/>
            <a:ext cx="82292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žuriranje dokumentacije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z prijavnic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tekstualne izmjene, dostava informativnih pon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Prezentacija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zainteresiranim čimbenicima unutar Grada P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Priprema odgovora na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novinarska pitanj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vezana uz financiranje Grada Pule u sklopu projek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Ishođeno oslobođenje od plaćanja PD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lnSpc>
                <a:spcPts val="36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1"/>
          <p:cNvSpPr/>
          <p:nvPr/>
        </p:nvSpPr>
        <p:spPr>
          <a:xfrm>
            <a:off x="2135520" y="3222000"/>
            <a:ext cx="82292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Ostale provedene aktiv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Aktivnosti u tijeku/planirane aktivnost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1080" y="2205000"/>
            <a:ext cx="800280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renutno je u izradi dokumentacija potrebna za provedbu nabave usluge izrade          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IDEJNOG PROJEKTA 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UREĐENJA RIVE U PULI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36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Tijekom sljedećih dva mjeseca planirana je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edukacija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alibri"/>
              </a:rPr>
              <a:t>ArcGIS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programa za dva djelatnika u trajanju od ukupno 12 dana</a:t>
            </a:r>
            <a:endParaRPr b="0" lang="sr-Latn-R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1350000"/>
            <a:ext cx="82292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Troškovi</a:t>
            </a:r>
            <a:endParaRPr b="0" lang="sr-Latn-R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Content Placeholder 7"/>
          <p:cNvGraphicFramePr/>
          <p:nvPr/>
        </p:nvGraphicFramePr>
        <p:xfrm>
          <a:off x="2711520" y="2853000"/>
          <a:ext cx="6768360" cy="97200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240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1.08.2015.do 25.09.201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t zaštite okoliš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00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89,36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cGIS mrežna lice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990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14,67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4" descr="O:\Prostorno Planiranje\Karmela\PUT UP ISTRE\08_LOGOTIP\logo\si-hr_logo_croatian_hr\4C\OP_SI-HR_hr_rgb.jpg"/>
          <p:cNvPicPr/>
          <p:nvPr/>
        </p:nvPicPr>
        <p:blipFill>
          <a:blip r:embed="rId1"/>
          <a:stretch/>
        </p:blipFill>
        <p:spPr>
          <a:xfrm>
            <a:off x="4943880" y="188640"/>
            <a:ext cx="2345040" cy="57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943880" y="6237360"/>
            <a:ext cx="2364480" cy="43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O:\Prostorno Planiranje\Karmela\PUT UP ISTRE\08_LOGOTIP\put-up_logo_color_CMYK.jpg"/>
          <p:cNvPicPr/>
          <p:nvPr/>
        </p:nvPicPr>
        <p:blipFill>
          <a:blip r:embed="rId3"/>
          <a:stretch/>
        </p:blipFill>
        <p:spPr>
          <a:xfrm>
            <a:off x="8749800" y="44640"/>
            <a:ext cx="152244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1993680" y="116640"/>
            <a:ext cx="789480" cy="93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6" name="Content Placeholder 7"/>
          <p:cNvGraphicFramePr/>
          <p:nvPr/>
        </p:nvGraphicFramePr>
        <p:xfrm>
          <a:off x="2711520" y="424008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irane aktivnosti do 31.12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ija  za korištenje ArcGIS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22 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Content Placeholder 7"/>
          <p:cNvGraphicFramePr/>
          <p:nvPr/>
        </p:nvGraphicFramePr>
        <p:xfrm>
          <a:off x="2711520" y="1989000"/>
          <a:ext cx="6768360" cy="683640"/>
        </p:xfrm>
        <a:graphic>
          <a:graphicData uri="http://schemas.openxmlformats.org/drawingml/2006/table">
            <a:tbl>
              <a:tblPr/>
              <a:tblGrid>
                <a:gridCol w="3384360"/>
                <a:gridCol w="1692000"/>
                <a:gridCol w="1692000"/>
              </a:tblGrid>
              <a:tr h="356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oškovi od 02.02.2015.do 31.07.2015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.793,51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2</a:t>
                      </a:r>
                      <a:r>
                        <a:rPr b="0" lang="de-DE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,</a:t>
                      </a:r>
                      <a:r>
                        <a:rPr b="0" lang="hr-HR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3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8640" y="2426400"/>
            <a:ext cx="9143640" cy="12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50000"/>
              </a:lnSpc>
              <a:buNone/>
            </a:pPr>
            <a:br>
              <a:rPr sz="2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endParaRPr b="0" lang="sr-Latn-R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O:\Prostorno Planiranje\Karmela\PUT UP ISTRE\08_LOGOTIP\put-up_logo_color_CMYK.jpg"/>
          <p:cNvPicPr/>
          <p:nvPr/>
        </p:nvPicPr>
        <p:blipFill>
          <a:blip r:embed="rId1"/>
          <a:stretch/>
        </p:blipFill>
        <p:spPr>
          <a:xfrm>
            <a:off x="8750160" y="44640"/>
            <a:ext cx="15220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O:\Prostorno Planiranje\Karmela\PUT UP ISTRE\08_LOGOTIP\logo\si-hr_public_croatian_hr\4C_RGB\OP_SI-HR_INVESTING_cro_RGB.jpg"/>
          <p:cNvPicPr/>
          <p:nvPr/>
        </p:nvPicPr>
        <p:blipFill>
          <a:blip r:embed="rId2"/>
          <a:stretch/>
        </p:blipFill>
        <p:spPr>
          <a:xfrm>
            <a:off x="4526640" y="5949360"/>
            <a:ext cx="3153240" cy="57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O:\Prostorno Planiranje\Karmela\PUT UP ISTRE\08_LOGOTIP\logo\si-hr_logo_croatian_hr\4C\OP_SI-HR_hr_rgb.jpg"/>
          <p:cNvPicPr/>
          <p:nvPr/>
        </p:nvPicPr>
        <p:blipFill>
          <a:blip r:embed="rId3"/>
          <a:stretch/>
        </p:blipFill>
        <p:spPr>
          <a:xfrm>
            <a:off x="1847520" y="188640"/>
            <a:ext cx="2345400" cy="57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rcRect l="18316" t="16244" r="33853" b="12879"/>
          <a:stretch/>
        </p:blipFill>
        <p:spPr>
          <a:xfrm>
            <a:off x="5591880" y="1196640"/>
            <a:ext cx="1037160" cy="1229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sustava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35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8T13:37:26Z</dcterms:created>
  <dc:creator>Sandro Krizman</dc:creator>
  <dc:description/>
  <dc:language>en-US</dc:language>
  <cp:lastModifiedBy>Karmela Maren</cp:lastModifiedBy>
  <dcterms:modified xsi:type="dcterms:W3CDTF">2015-09-21T07:11:43Z</dcterms:modified>
  <cp:revision>3</cp:revision>
  <dc:subject/>
  <dc:title>PUT-UP ISTRE PROVEDENE AKTIVNOSTI I FINANCIJSKI IZVJEŠTAJ GRADA PU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ustom</vt:lpwstr>
  </property>
  <property fmtid="{D5CDD505-2E9C-101B-9397-08002B2CF9AE}" pid="3" name="Slides">
    <vt:r8>8</vt:r8>
  </property>
</Properties>
</file>